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E2F-C262-4F30-BA7A-A360DFF9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BCD-5A6E-4253-BC49-EF0E8319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928-D2B4-4852-9A0E-0D314303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689-C27A-4EE0-BE16-EFE18383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FCD-8EDF-417B-BB5B-12220679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CB7-B496-4FD2-9637-9718C004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406-64D0-4C26-8920-CD21349E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850-83B4-4A24-AE8C-8D81E4E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A02-E761-4D86-BA45-990FFA3B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B40-6A05-4B7F-9846-BDCC9FB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148-1121-4BDD-809D-931355F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C09-BFAF-4562-AC4B-FE40746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07DF-EE88-401F-8422-88860A8BA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yli Ca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6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" y="3815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roblem is What materials work best to make goop, and can it go quickly from a liquid to a solid and then back to a liquid when not moving. The reason I picked this project is because I thought goop was an interesting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is that laundry borax would work the best because when dealing with powder laundry soap I have noticed if you get it damp it becomes sticky. So I think if you add glue it will be more of in a solid state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undry B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lau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water or until covering b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ablespoons of white g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 St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corn st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up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ablespoons of white g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all materials together and then move each mixture and then record which mixture went to the solid form the fas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end result was that laundry borax did not work as I thought it would. Corn starch came out the best and yes it did go from a liquid to a solid. My hypothesis was wrong and I think that is was because the corn starches was smoother so it grouped together easi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nclusion is that my hypothesis was wrong and that Corn starch worked b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cifun.chem.wisc.eduhomeexptsgluep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3:33:59Z</dcterms:created>
  <dc:creator>USD376</dc:creator>
  <dc:description/>
  <dc:language>en-US</dc:language>
  <cp:lastModifiedBy>USD376</cp:lastModifiedBy>
  <dcterms:modified xsi:type="dcterms:W3CDTF">2010-05-04T13:36:54Z</dcterms:modified>
  <cp:revision>2</cp:revision>
  <dc:subject/>
  <dc:title>Goop</dc:title>
</cp:coreProperties>
</file>